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58B8-F1B4-4DA6-B9AF-B90CA306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FCF8-60F6-4A67-B8FD-0B457B9C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FE03-AF09-4935-8B16-F95E23FE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6AA1-B8A7-45B8-9CA7-369DAF79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8B7B-85CC-4AFD-89D5-7C15CB26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8057-275A-4F6C-860C-AA6E82A3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9532-583A-47BD-A8BF-524922EC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EEB3-148D-402A-84DB-118B298E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D95E-C872-4D87-89CB-491AD5CE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159E-8B23-4CB3-BBD2-AAB40F3B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ED1A-A2FC-4965-88BA-496A41C3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1451-335B-4B51-A4E8-85D75C6D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366D-B0D0-49D6-B1FA-0A23B3EB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7EAE-A159-4EC8-8720-028E71CD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0B8A-4FFC-42A3-987C-9782B8E5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2944-1791-4912-B21B-F4C5FF2F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630E-DC2B-4CD4-84E1-5FFD4C07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B781-737C-409B-B007-3C985B1D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1F93-AE46-444A-BAD8-20C05D73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FD62-1B06-46F2-B80B-CA4F8018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28C7-BFFE-4781-9544-2AF36529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DA29-7B60-4AFB-872F-AEBCB3CA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F5C7-8ED3-4DAE-BEC2-80D80FF4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D971-1092-4310-BD65-A8B8E7B9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029F-1090-43DF-BFD6-4EC58F625D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88AA-7D1C-49C0-B643-D9860A0379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imsweb.com/login.php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187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Response to Intervention (RTI)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&amp;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he IST Proces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eola Middle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4952880"/>
            <a:ext cx="2286000" cy="1571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 rot="20472600">
            <a:off x="4800600" y="5257800"/>
            <a:ext cx="3933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007-08 Updat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ample Student Benchmark Repor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19532" t="17709" r="14844" b="20835"/>
          <a:stretch/>
        </p:blipFill>
        <p:spPr>
          <a:xfrm>
            <a:off x="609480" y="1295280"/>
            <a:ext cx="7772400" cy="51912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276720" y="2743200"/>
            <a:ext cx="16761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3657600"/>
            <a:ext cx="990360" cy="1523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ading Improvement Report for 2007-2008 School Year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09640" y="2050920"/>
            <a:ext cx="7648560" cy="43941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581280" y="2209680"/>
            <a:ext cx="19051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0" y="4038480"/>
            <a:ext cx="23623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00600" y="5334120"/>
            <a:ext cx="25146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Benchmark Scores for 2007-2008 School Yea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46120" y="1755720"/>
            <a:ext cx="7912080" cy="46483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200400" y="1930320"/>
            <a:ext cx="220968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aimsweb.com/login.php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rcRect l="17188" t="13540" r="19532" b="72732"/>
          <a:stretch/>
        </p:blipFill>
        <p:spPr>
          <a:xfrm>
            <a:off x="38160" y="990720"/>
            <a:ext cx="9067680" cy="16002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rcRect l="27343" t="27086" r="58596" b="33337"/>
          <a:stretch/>
        </p:blipFill>
        <p:spPr>
          <a:xfrm>
            <a:off x="1523880" y="2590920"/>
            <a:ext cx="1949400" cy="41148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447920" y="2057400"/>
            <a:ext cx="106668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ckground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T Mee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T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week Re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wh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Wha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hree Tier RTI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648320" y="2114640"/>
            <a:ext cx="4038480" cy="3497040"/>
            <a:chOff x="4648320" y="2114640"/>
            <a:chExt cx="4038480" cy="3497040"/>
          </a:xfrm>
        </p:grpSpPr>
        <p:sp>
          <p:nvSpPr>
            <p:cNvPr id="220" name="_s4112"/>
            <p:cNvSpPr/>
            <p:nvPr/>
          </p:nvSpPr>
          <p:spPr>
            <a:xfrm flipV="1">
              <a:off x="5994360" y="2114640"/>
              <a:ext cx="1346400" cy="1164960"/>
            </a:xfrm>
            <a:custGeom>
              <a:avLst/>
              <a:gdLst>
                <a:gd name="textAreaLeft" fmla="*/ 483120 w 1346400"/>
                <a:gd name="textAreaRight" fmla="*/ 863280 w 1346400"/>
                <a:gd name="textAreaTop" fmla="*/ 417960 h 1164960"/>
                <a:gd name="textAreaBottom" fmla="*/ 747000 h 11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ier II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_s4113"/>
            <p:cNvSpPr/>
            <p:nvPr/>
          </p:nvSpPr>
          <p:spPr>
            <a:xfrm flipV="1">
              <a:off x="5321520" y="3279600"/>
              <a:ext cx="2692080" cy="1167120"/>
            </a:xfrm>
            <a:custGeom>
              <a:avLst/>
              <a:gdLst>
                <a:gd name="textAreaLeft" fmla="*/ 591840 w 2692080"/>
                <a:gd name="textAreaRight" fmla="*/ 2100240 w 2692080"/>
                <a:gd name="textAreaTop" fmla="*/ 256680 h 1167120"/>
                <a:gd name="textAreaBottom" fmla="*/ 910440 h 116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ier I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_s4114"/>
            <p:cNvSpPr/>
            <p:nvPr/>
          </p:nvSpPr>
          <p:spPr>
            <a:xfrm flipV="1">
              <a:off x="4648320" y="4446720"/>
              <a:ext cx="4038480" cy="1164960"/>
            </a:xfrm>
            <a:custGeom>
              <a:avLst/>
              <a:gdLst>
                <a:gd name="textAreaLeft" fmla="*/ 700920 w 4038480"/>
                <a:gd name="textAreaRight" fmla="*/ 3337560 w 4038480"/>
                <a:gd name="textAreaTop" fmla="*/ 201960 h 1164960"/>
                <a:gd name="textAreaBottom" fmla="*/ 963000 h 11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Tier I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676520" y="480060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thin the general education cla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35053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IS (Content Area Teach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23623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mall Group AIS (Reading / Special Ed. Teach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33920" y="52578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38862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29718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6019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TI can also be used to address the social / emotional needs of our children (e.g. BIP; Group Counseling; Individual Counsel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ur Structur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6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G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uble ELA --- with a Reading Teacher as a co-teacher (providing small group instru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uble Period Math --- Differentiated Instr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7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Gra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eriod --- On-Target; AIS Math Tier II or III; AIS ELA Tier II or III; or any comb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8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G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eriod --- On-Target; AIS Math Tier II or III; AIS ELA Tier II or III; or any comb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AL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 the academic needs of stude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 static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self-awareness of the students (e.g. skill breakdown on Assessments; DIG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empower the IST to make a differe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 emotional needs of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IMSWeb (Tracking Program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ing CB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r II – Benchmarking 3x/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r III – Strategic Monitoring 2x/mon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h CB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r II – Benchmarking 3x/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r III – Strategic Monitoring 2x/mon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Summer and Fall Training Workshops"/>
          <p:cNvPicPr/>
          <p:nvPr/>
        </p:nvPicPr>
        <p:blipFill>
          <a:blip r:embed="rId1"/>
          <a:srcRect l="25345" t="0" r="6196" b="60451"/>
          <a:stretch/>
        </p:blipFill>
        <p:spPr>
          <a:xfrm>
            <a:off x="4952880" y="5562720"/>
            <a:ext cx="3962520" cy="10634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133720" y="3048120"/>
            <a:ext cx="0" cy="761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3048120"/>
            <a:ext cx="0" cy="761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-285840" y="57240"/>
            <a:ext cx="9258480" cy="674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14640" y="2946240"/>
            <a:ext cx="4457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71640" y="4660920"/>
            <a:ext cx="674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29040" y="5003640"/>
            <a:ext cx="262872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r 1 - Uni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y classroom instruction using research-based strategies with targeted studen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29040" y="3289320"/>
            <a:ext cx="2628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r 2 - Strateg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mall Group (10-12 students) AIS Classe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enchmarking three times / yea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24400" y="1003320"/>
            <a:ext cx="16761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r 3 - Intens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mall group (4-6 students) AIS cla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gress Monitoring every 2-3 week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43040" y="5232240"/>
            <a:ext cx="2057400" cy="9144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t-Risk Stud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 analyzes data, refers student to IST and moves student to Tier 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2217800">
            <a:off x="-171360" y="39747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71560" y="3517920"/>
            <a:ext cx="1143000" cy="7999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data checks, regression/no progres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ST Proc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886360" y="5232240"/>
            <a:ext cx="2057400" cy="914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n Target Stud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 analyzes data and keeps student in Tier 1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2775200">
            <a:off x="742680" y="23745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72240" y="3517920"/>
            <a:ext cx="1143000" cy="685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data check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ST Proces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66880" y="2057400"/>
            <a:ext cx="1828800" cy="6858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gression /no progress, revise (repeat if not successful) --- consider referral to CS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2057400"/>
            <a:ext cx="1371600" cy="685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gr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e with progra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ST Proc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3111800">
            <a:off x="1885320" y="7740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9954800">
            <a:off x="7143840" y="26031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9942200">
            <a:off x="8172360" y="408924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5840" y="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19920" y="228600"/>
            <a:ext cx="2819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raphic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presenta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er CB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e and Enter Data in AIMs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et with AIS Teachers to discuss results and provide them with Passwords to AIMs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 about the “Philosophy” of 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iculum        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971800" y="5257800"/>
            <a:ext cx="762120" cy="0"/>
          </a:xfrm>
          <a:prstGeom prst="line">
            <a:avLst/>
          </a:prstGeom>
          <a:ln w="63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25480" cy="8668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825480" cy="8668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 rot="1614600">
            <a:off x="6248160" y="457200"/>
            <a:ext cx="1244520" cy="12096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380880" y="2514600"/>
            <a:ext cx="825480" cy="866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380880" y="4038480"/>
            <a:ext cx="82548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86400" y="1039320"/>
            <a:ext cx="3200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ample AIMsWeb Data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8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Grade Tier II AI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rcRect l="37595" t="33337" r="28126" b="10420"/>
          <a:stretch/>
        </p:blipFill>
        <p:spPr>
          <a:xfrm>
            <a:off x="152280" y="380880"/>
            <a:ext cx="54500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5:22:28Z</dcterms:created>
  <dc:creator>User</dc:creator>
  <dc:description/>
  <dc:language>en-US</dc:language>
  <cp:lastModifiedBy>User</cp:lastModifiedBy>
  <dcterms:modified xsi:type="dcterms:W3CDTF">2008-02-26T18:14:03Z</dcterms:modified>
  <cp:revision>13</cp:revision>
  <dc:subject/>
  <dc:title>Response to Intervention (RTI) &amp; The IST Process</dc:title>
</cp:coreProperties>
</file>